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85719"/>
        <c:axId val="70464333"/>
      </c:barChart>
      <c:catAx>
        <c:axId val="64585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64333"/>
        <c:crosses val="autoZero"/>
        <c:auto val="1"/>
        <c:lblAlgn val="ctr"/>
        <c:lblOffset val="100"/>
        <c:noMultiLvlLbl val="0"/>
      </c:catAx>
      <c:valAx>
        <c:axId val="70464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85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037-3208-434E-A242-0A1E23AB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065-FAE9-4017-AAD0-918F7E90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C3C-09AE-43BA-8082-2130748A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FD2-7DDC-4544-BB62-5D305692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6AF-4425-437B-8A2C-40887AD6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7A9-43BB-4BC5-8D96-6159B6E5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0D4-7151-4FA6-BD1E-9A545BD5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725-DD2F-4281-B546-6749434C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6C9-6E05-484F-B253-44B30EBC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2B1-2B39-4873-B8D4-7895ADF2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635-E1DC-4294-BEE7-8F6DC679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A9B-303F-4582-93D7-7E584BF5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53872-5BFB-4BAB-BBC0-ED317208F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