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57372"/>
        <c:axId val="4409853"/>
      </c:barChart>
      <c:catAx>
        <c:axId val="41857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9853"/>
        <c:crosses val="autoZero"/>
        <c:auto val="1"/>
        <c:lblAlgn val="ctr"/>
        <c:lblOffset val="100"/>
        <c:noMultiLvlLbl val="0"/>
      </c:catAx>
      <c:valAx>
        <c:axId val="4409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57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7FA-AC78-4EE3-A57A-36700ADA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D58-13D5-4373-9EAF-D41E6F15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D09-A5C2-45C1-9188-C59FC256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2FC-FBF6-4C03-A060-68D3F96D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964-82CE-44E4-B6A0-80CD231C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680-2D81-4C17-81CE-B094374A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5F4-8855-4C76-A41E-0D34EF2D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8A5-C20E-4813-BF85-9671BAE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D91-0783-4263-88DB-B2636E4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2A8-545A-460B-9F7B-DA0EF88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31C-3376-4A79-AD08-783EC61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706-D42C-4812-B6FE-2D6304B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188D7-0BCA-4EFB-A238-2046EE90F8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