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91536"/>
        <c:axId val="1498880"/>
      </c:barChart>
      <c:catAx>
        <c:axId val="41791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8880"/>
        <c:crosses val="autoZero"/>
        <c:auto val="1"/>
        <c:lblAlgn val="ctr"/>
        <c:lblOffset val="100"/>
        <c:noMultiLvlLbl val="0"/>
      </c:catAx>
      <c:valAx>
        <c:axId val="1498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91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94D-1E95-47F9-947A-B72B4921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3AA-B168-483B-9E29-D2EE2BB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FEB-55C4-46FB-BC76-82B3E63E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F02-C7A3-4366-8306-BAB7E87E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F39-ECD7-440B-ACAD-4FAE8B85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DE4-BBD9-4010-8E37-2D3140E5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E9F-E578-4E20-B002-BE4BAEDF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869-2312-40CF-BECC-4F532FC0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DD3-979B-492D-81AE-28B5A74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2F1-BA50-4C00-BF99-FE53F11B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F8D-7C8B-4C28-9FAA-8FACB1F4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6A2-03B0-43CB-A815-EC83E71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D002B-A3DD-4F93-8505-4A696ABDA8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