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95825"/>
        <c:axId val="84666977"/>
      </c:barChart>
      <c:catAx>
        <c:axId val="98795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66977"/>
        <c:crosses val="autoZero"/>
        <c:auto val="1"/>
        <c:lblAlgn val="ctr"/>
        <c:lblOffset val="100"/>
        <c:noMultiLvlLbl val="0"/>
      </c:catAx>
      <c:valAx>
        <c:axId val="84666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95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983-F618-412A-BA06-5F26F100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B70-B2CF-4551-B711-4DC9AD53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701-3368-48C4-95B2-E99080F3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69A-6218-4D0A-B389-3661B02E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48FE-537D-455C-A931-D3E30377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C5C-FD80-48A3-AEEF-17BB1A3D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A86-6270-46B5-95C7-F9E051E3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A70-253D-4E39-9BA7-DFFA243A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DCB-4B6D-4CA7-A596-74B26A9B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800A-957B-496A-8B47-CC81AF54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DCBE-5B5E-4BDE-BC16-7F378906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020-45CD-4B19-8DF7-339D1FF4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8A1B1-4371-4235-A636-F20D814748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