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20554"/>
        <c:axId val="66105914"/>
      </c:barChart>
      <c:catAx>
        <c:axId val="22320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05914"/>
        <c:crosses val="autoZero"/>
        <c:auto val="1"/>
        <c:lblAlgn val="ctr"/>
        <c:lblOffset val="100"/>
        <c:noMultiLvlLbl val="0"/>
      </c:catAx>
      <c:valAx>
        <c:axId val="66105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20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069-9F67-4E4E-A3D3-D8BDCADF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76-7BB5-44FF-B6CD-C02420E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AF9-7E11-42A5-99D0-457E7045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9BC-ADD8-48EA-8530-4C05CC2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717-C5CB-427D-9CF8-2165D07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AE3-4D8B-4903-A60C-34F0C108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76F-4932-4A4F-A188-91BB6B24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C7-3030-4142-B271-2029827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2A7-D1CF-4997-8C8B-B8F0325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6A8-B69E-474E-A41A-2698A0D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A07-8AC7-4DA2-BCE5-82BA2FE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D5F-F20B-41FF-AE0C-67A9DD2F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1913-5E70-4A62-83DB-41D456473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