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521977"/>
        <c:axId val="22779132"/>
      </c:barChart>
      <c:catAx>
        <c:axId val="885219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79132"/>
        <c:crosses val="autoZero"/>
        <c:auto val="1"/>
        <c:lblAlgn val="ctr"/>
        <c:lblOffset val="100"/>
        <c:noMultiLvlLbl val="0"/>
      </c:catAx>
      <c:valAx>
        <c:axId val="227791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5219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5710-A940-4897-8842-0B428977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B96E-317F-43FF-882A-210CE1B5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DC23-EAE3-4B0D-A29A-51384D0A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C5FB-21B7-41C0-83D9-304535870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6524-0DE9-484D-AD9D-FA7E410C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948F-0913-4A81-A214-0122FE81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8008-C419-4382-8160-6F3DBB3D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B51D-294F-4127-A273-9EF9E436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0322-3567-42FF-ABAD-A10BE533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913E-4D87-490A-88A9-19D5B9D0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FE8B-1BF6-4D26-B250-7C8852A3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20E9-183C-4EB9-B54E-3050D86F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9E497-88C9-41DB-8419-223F9A4DDD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