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37028"/>
        <c:axId val="12216517"/>
      </c:barChart>
      <c:catAx>
        <c:axId val="952370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16517"/>
        <c:crosses val="autoZero"/>
        <c:auto val="1"/>
        <c:lblAlgn val="ctr"/>
        <c:lblOffset val="100"/>
        <c:noMultiLvlLbl val="0"/>
      </c:catAx>
      <c:valAx>
        <c:axId val="12216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370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176-6E30-4AB5-A562-DE40B4AA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935-B545-4CC2-9713-6D2BF386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CCC3-F3E5-4142-B2A4-3BD3AE10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9B5-DE8A-49D6-829F-02ABE40D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215-7F8B-42AD-A226-C5E3D54A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68B-049E-48CC-BF83-E67FC361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EE5-9F7E-4CB0-A2A2-E8B4037E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C91-7AF2-4C82-914B-0041FB18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5EC-755C-479C-BFCD-872FB9C4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00E-D7EC-4250-86DD-5CC9D3F4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6ED-80F1-4AF8-B8BD-A45DAEF7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187-FF6F-4DCF-953E-B1981BCD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5DDEB-33CA-4D0D-912F-2C99C74DA6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