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87074"/>
        <c:axId val="29101719"/>
      </c:barChart>
      <c:catAx>
        <c:axId val="86987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1719"/>
        <c:crosses val="autoZero"/>
        <c:auto val="1"/>
        <c:lblAlgn val="ctr"/>
        <c:lblOffset val="100"/>
        <c:noMultiLvlLbl val="0"/>
      </c:catAx>
      <c:valAx>
        <c:axId val="29101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87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257-737E-4922-82A3-8C8BFE96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C8A-9E6D-4F4D-932E-7A3E7A21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673-CEF2-4E0B-B1D9-E5A01936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C1D-FC8D-4413-845E-B0D43F45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C9B-A1DC-4956-8F89-F09E43E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D9B-3767-4B38-8EC9-23FAF479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009-B9D3-4D14-99E8-B0ECA1F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823-495B-4CC2-BEA0-6C727A60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C99-0D39-4B86-9171-C844F22D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8CD-121F-425E-865F-D30DCD0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9FE-A74C-43C2-912C-F07981C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282-05B4-40F8-AF53-A63BC68D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C8666-65EE-49C8-B907-264F36FD54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