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72304"/>
        <c:axId val="98875567"/>
      </c:barChart>
      <c:catAx>
        <c:axId val="31372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75567"/>
        <c:crosses val="autoZero"/>
        <c:auto val="1"/>
        <c:lblAlgn val="ctr"/>
        <c:lblOffset val="100"/>
        <c:noMultiLvlLbl val="0"/>
      </c:catAx>
      <c:valAx>
        <c:axId val="98875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72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BC9-F766-434E-AD02-D789B58B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5CF-AC40-489C-8476-6A96FBA1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321-52E9-403E-86C0-886554F5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F75-7D0C-45E0-A35A-811FB223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E75-8942-4D39-97CF-5E1DBAF2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79B-ED77-425B-A744-16F9A963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EBD-5571-430F-B710-354D40C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D0F-0305-4D9E-A27C-E3384CE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279-80F9-4A1A-9A0B-7394613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B53-C862-4B52-9048-C3C45C9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F37-7F60-48A6-821C-3385675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DCA-8553-446B-B744-F15FC9D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F23A1-B459-4047-8CA4-EE9C4D5DF1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