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9896"/>
        <c:axId val="82644221"/>
      </c:barChart>
      <c:catAx>
        <c:axId val="61249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44221"/>
        <c:crosses val="autoZero"/>
        <c:auto val="1"/>
        <c:lblAlgn val="ctr"/>
        <c:lblOffset val="100"/>
        <c:noMultiLvlLbl val="0"/>
      </c:catAx>
      <c:valAx>
        <c:axId val="82644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9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73F-2E2A-4CF0-BE9E-76790FC5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999-A41B-44ED-8DFF-84B1E4D7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90B-9196-4D65-BCF2-26CBE224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8A3-3F74-4F41-ABD2-0EB4F1BB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E29-46E3-4979-8D2D-8E55FC0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535-345C-4C65-A398-5026073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EB9-CE41-449C-849E-1EBD30E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9C6-A150-44FB-928A-B9290BA8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6AB-24F9-480E-8A1B-5127DFB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E7B-836F-4840-A3E4-BB0F4282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1E0-5C3F-4AA8-9028-F13152F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0B0-EB8F-402E-9A46-523E638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4167-E41A-4125-8A89-9BECC49716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