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622692"/>
        <c:axId val="93133375"/>
      </c:barChart>
      <c:catAx>
        <c:axId val="97622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33375"/>
        <c:crosses val="autoZero"/>
        <c:auto val="1"/>
        <c:lblAlgn val="ctr"/>
        <c:lblOffset val="100"/>
        <c:noMultiLvlLbl val="0"/>
      </c:catAx>
      <c:valAx>
        <c:axId val="931333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22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FB4-C2A2-4D83-A522-D8A8DE58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1781-55CA-4095-B048-6D32CD6A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EF46-7CC3-4D66-ACE5-CF0086DC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936-947A-4100-82FB-329125A2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3FE6-9EBB-44E6-9D77-08822C9F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10B-18FD-4555-A19B-D05BECD9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34E3-1F30-4825-B823-EB3D4F87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355-07F7-420E-AB83-E6865A44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7E9-CCE1-486A-A402-B8B907BD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B3F-C921-44F8-AA34-4F703BC0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3BA-C21F-4473-B4C2-F87402F9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DDC-F7D3-475C-B38E-86971423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B1620-49A4-426D-B3B4-8AD287A3CA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