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66030"/>
        <c:axId val="84253864"/>
      </c:barChart>
      <c:catAx>
        <c:axId val="31566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53864"/>
        <c:crosses val="autoZero"/>
        <c:auto val="1"/>
        <c:lblAlgn val="ctr"/>
        <c:lblOffset val="100"/>
        <c:noMultiLvlLbl val="0"/>
      </c:catAx>
      <c:valAx>
        <c:axId val="842538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66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B30-4CAD-44CD-92C0-17F6A781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BE2-8387-4018-BBA6-968F7D19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08E-DB50-451B-A13B-01B68E8A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286F-42C5-47D4-85EE-CF8F6431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4CC-509A-4038-84C4-F37E9C53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852-A025-4939-BD1D-C1E15A32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B41-FC59-4E26-A253-6A258EF4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260D-312D-41CE-9CC5-E710D51C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6F7-8447-4B8B-ACDB-57E337E8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FA2-906A-4493-A8BB-B237114D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9F4-E6F9-4202-A4B1-5FAAA2EF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C86-CEFD-472A-9C1D-7C30511F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1AF08-6BAB-4AA4-A51E-073614BCAC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