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66617"/>
        <c:axId val="82602791"/>
      </c:barChart>
      <c:catAx>
        <c:axId val="74266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2791"/>
        <c:crosses val="autoZero"/>
        <c:auto val="1"/>
        <c:lblAlgn val="ctr"/>
        <c:lblOffset val="100"/>
        <c:noMultiLvlLbl val="0"/>
      </c:catAx>
      <c:valAx>
        <c:axId val="82602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66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AB0-97B6-46F0-951E-AFED736F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0F2-A873-42E2-A109-1238EDC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5D4-2147-4902-BAF9-A25067E2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0EC-DCC6-414B-9D97-1B6E5852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3ACF-9F37-4C00-8214-E42C14EB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7BD-2B36-4719-9BE0-7175D018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633-71F8-4691-89D7-19F9B5E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E14-5CB2-4277-9525-7C25EAA6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E4F-4705-456A-82CF-650BFE98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941-011A-46DD-8D15-D5E726D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E68-B024-4296-AF94-E9AC6B48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8A2-7F43-403B-AA9F-1E594B45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E0F56-68CE-4889-8E69-A2D3FD97CE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