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95739"/>
        <c:axId val="16843000"/>
      </c:barChart>
      <c:catAx>
        <c:axId val="82995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43000"/>
        <c:crosses val="autoZero"/>
        <c:auto val="1"/>
        <c:lblAlgn val="ctr"/>
        <c:lblOffset val="100"/>
        <c:noMultiLvlLbl val="0"/>
      </c:catAx>
      <c:valAx>
        <c:axId val="16843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5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690-EC24-4FCD-9277-478B7F06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87E-4BC3-4312-877A-CBE946F7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4F0-705A-4604-A2E9-73022AB7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CCF-5DE8-4F30-AA80-1BBE5034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956-EF99-4C5D-994F-ECEA7E7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47B-EA41-4AC6-B135-C071401A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063-7A00-461C-8E7C-341A37FB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820-15FD-4423-9647-9F4873F8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847-FD13-4249-8328-F704C4C2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D0B-28EF-4F88-96EF-330AC613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190-92BD-4862-8FDE-A0B4354A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7C3-2806-47E5-8BB3-CFC26591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714D7-CE05-4393-B49C-66072E1581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