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67036"/>
        <c:axId val="90311182"/>
      </c:barChart>
      <c:catAx>
        <c:axId val="64167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11182"/>
        <c:crosses val="autoZero"/>
        <c:auto val="1"/>
        <c:lblAlgn val="ctr"/>
        <c:lblOffset val="100"/>
        <c:noMultiLvlLbl val="0"/>
      </c:catAx>
      <c:valAx>
        <c:axId val="90311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67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15C-190F-45EE-983A-562F838E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F60-D51F-4A66-ABA7-20A1AC28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7C8-408C-4143-90AA-B66D7067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DC4-B200-484D-8BED-989ADA5F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6C4-EFA8-4F6D-8D57-4BC69731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6AF-23A6-470F-B6BB-F27750D5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17D-B792-4600-BBFC-29AA702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593-552A-4344-8943-A6C46D96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A7A-A38F-422E-BA2B-1C97A9C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D63-F088-4712-9BBA-36B94C8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80B-F4B4-48CB-8C2D-E1C1A651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598-326B-4B20-8D35-2F2A2DC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50BB5-1E35-45DF-ABD6-C5B58F708B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