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20631"/>
        <c:axId val="17091016"/>
      </c:barChart>
      <c:catAx>
        <c:axId val="27120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91016"/>
        <c:crosses val="autoZero"/>
        <c:auto val="1"/>
        <c:lblAlgn val="ctr"/>
        <c:lblOffset val="100"/>
        <c:noMultiLvlLbl val="0"/>
      </c:catAx>
      <c:valAx>
        <c:axId val="17091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20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780-4DD6-4B9C-BC15-04F8154B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BA3-AB4B-46CF-BBD4-448105FB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395-AB15-4E06-BE44-646CB088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51B9-82F1-4585-B635-BB0C224E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03B-EA6B-4651-A6F1-A8B56B34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FE0-01FC-471C-B686-89A5CA00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DED-FB47-44FF-BC24-21984217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AF6-DE78-4B8D-835A-979126E4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3BC-FB07-47C9-AED5-B55B422E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28F-5085-469A-A774-0555DE5F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C8D-1F76-422F-AE89-E292D91E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7EA-205B-4760-A30E-75B3461F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F6046-B975-4303-8F69-4F4AB55BB8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