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16397"/>
        <c:axId val="13299389"/>
      </c:barChart>
      <c:catAx>
        <c:axId val="28016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99389"/>
        <c:crosses val="autoZero"/>
        <c:auto val="1"/>
        <c:lblAlgn val="ctr"/>
        <c:lblOffset val="100"/>
        <c:noMultiLvlLbl val="0"/>
      </c:catAx>
      <c:valAx>
        <c:axId val="13299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16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012-4FB6-4546-BB45-187C8C50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D52-CA9A-4A02-A833-62079428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618-87AE-4761-9A42-9D754A56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3CE-F306-438D-8CA5-1C4DD5C1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494-6B86-4E7E-9FA9-78EA2D49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05E-1591-4C0B-AA13-9CC4A19E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F0F-01DD-4B25-96EB-1D57142F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4A8-0289-4625-867B-1115470B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A38-AF82-4DB8-ABD2-56AC837D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5B8-B6BA-444D-AAEE-72F1F835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EFD-80C9-4A9A-8B90-1719828B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D0F-E602-4C5F-A1AA-75FB4A61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3481A-3187-4117-9FD4-4E534A89B3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