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09210"/>
        <c:axId val="35211508"/>
      </c:barChart>
      <c:catAx>
        <c:axId val="72609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1508"/>
        <c:crosses val="autoZero"/>
        <c:auto val="1"/>
        <c:lblAlgn val="ctr"/>
        <c:lblOffset val="100"/>
        <c:noMultiLvlLbl val="0"/>
      </c:catAx>
      <c:valAx>
        <c:axId val="352115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09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3DB-908F-4751-94E7-37521480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8B1-0879-4317-908D-F45EA7F4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2161-3D84-4F84-B656-FF810213F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7803-EC13-469A-8C94-73C77520F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996-DCDE-43ED-B998-C6577163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549-FCCE-438B-9675-BCB6E132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A4D-2CF4-477A-A120-5DD52DE7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51AB-4EE6-4F4F-942C-6D9BE3E3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1C7-DA47-4C6A-9729-E6E729A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694-4109-4DCB-88DE-EDC1C2FD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2F2-ECD9-438A-9850-3EC2B5B4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6549-621E-4DA1-82B2-5EA8C452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82FA1-8DD2-43EC-B909-793CA42907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