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06011"/>
        <c:axId val="94823749"/>
      </c:barChart>
      <c:catAx>
        <c:axId val="40406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23749"/>
        <c:crosses val="autoZero"/>
        <c:auto val="1"/>
        <c:lblAlgn val="ctr"/>
        <c:lblOffset val="100"/>
        <c:noMultiLvlLbl val="0"/>
      </c:catAx>
      <c:valAx>
        <c:axId val="94823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06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42D-ABC2-4083-8CA2-57EF01B9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2D4-173F-470A-857F-98A52A78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DE3-4D03-4D95-87F3-C0341239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EC9-4356-41B7-979C-468FEAFF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50D-80BA-4390-99A4-FDBD0813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1C1-A736-4510-9738-4310D705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3D0-FC6A-4298-8FF6-C1704891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802-280D-4DF3-9A99-6040AFB9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F91-F6F5-4365-B9A0-5F7F4A99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300-2652-4B2B-B1F5-6D7CAE25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7ED-D224-4221-8733-54B096E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752-A74D-49C9-BC7D-70E10E0F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4EFAA-F663-4DD5-A632-7E091B7E54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