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620085"/>
        <c:axId val="26173241"/>
      </c:barChart>
      <c:catAx>
        <c:axId val="826200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73241"/>
        <c:crosses val="autoZero"/>
        <c:auto val="1"/>
        <c:lblAlgn val="ctr"/>
        <c:lblOffset val="100"/>
        <c:noMultiLvlLbl val="0"/>
      </c:catAx>
      <c:valAx>
        <c:axId val="261732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200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3343-A33D-4E7B-B401-2386A11D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045D-DADC-43BE-A91F-0B1B656E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9F24-34D6-4060-870D-9F4514B16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07DC-C39C-4657-A14D-66AD58BB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AE9C-FC13-48FE-AED9-C0A576E2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3568-D9EE-4510-8738-82C6038D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3CCF-E829-4CBD-AF48-E3BADF19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BF64-DF10-44BE-A8BA-4D2BEFED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2A29-8084-458E-8244-7AB1A981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3DAE-0E50-4323-8DC5-7CA2872C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1006-B6E8-4D55-84F6-9FE2CD89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899D-FF4A-4DBB-916B-1DFE2D85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20FEA-5A03-40D4-9825-1C9540E113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