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29608"/>
        <c:axId val="2787109"/>
      </c:barChart>
      <c:catAx>
        <c:axId val="86629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7109"/>
        <c:crosses val="autoZero"/>
        <c:auto val="1"/>
        <c:lblAlgn val="ctr"/>
        <c:lblOffset val="100"/>
        <c:noMultiLvlLbl val="0"/>
      </c:catAx>
      <c:valAx>
        <c:axId val="2787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29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D18-C249-48B6-8B25-ECB6E7D7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DF2-1196-46EA-B506-112B1C32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CF6-136E-4401-9C19-64B796C4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024-658F-4DE2-9B7E-CF01EA92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901-A4EE-45E9-AE44-23923E6A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3AA-2835-4D1C-9E49-FDF4DD7F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464-6980-45DF-99F9-C5BEA2ED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217-F859-4D65-BB30-6931CA6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052-D5A3-4141-8C69-D25A58A7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6DA-4E1D-4822-9D40-86244366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6C1-66D5-496A-98B2-C9C3DBF4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70A-0409-40AC-AF62-7F5DE33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6355D-6A0F-4733-8224-961DB8FF4E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