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330754"/>
        <c:axId val="59820474"/>
      </c:barChart>
      <c:catAx>
        <c:axId val="273307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20474"/>
        <c:crosses val="autoZero"/>
        <c:auto val="1"/>
        <c:lblAlgn val="ctr"/>
        <c:lblOffset val="100"/>
        <c:noMultiLvlLbl val="0"/>
      </c:catAx>
      <c:valAx>
        <c:axId val="598204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3307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5269-273B-460B-9488-ACD11B384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37C2-B1EC-49B6-B803-9D502C09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D4B8-09CC-4110-9983-7D16447A6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7824-4CDA-4E90-BC63-C5AFAEC4D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23C5-E687-4B8A-968D-AB590E95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D7F6-6E06-4101-AAA6-8A704C85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1E77-A947-4D96-BF8B-E1E0D13E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468E-09A0-4262-ABFE-8D697DE0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6969-E8C8-4BF5-8B3B-EA29277F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0BF8-2A5A-4A28-B132-AD162C1E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6EAD-8ABB-455C-AECC-0D4A3E75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EE34-A67F-4E13-BFA0-639BB3BB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1DB7A-37BD-42A7-B215-BD7AEAB318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