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99308"/>
        <c:axId val="61602889"/>
      </c:barChart>
      <c:catAx>
        <c:axId val="79099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02889"/>
        <c:crosses val="autoZero"/>
        <c:auto val="1"/>
        <c:lblAlgn val="ctr"/>
        <c:lblOffset val="100"/>
        <c:noMultiLvlLbl val="0"/>
      </c:catAx>
      <c:valAx>
        <c:axId val="61602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99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54D-35C7-49DC-98A9-7A09A483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480-FBDA-4372-978B-F7681D9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1A9-7759-421E-9645-C244C749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781-C533-496F-8DF3-DC562EFF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7A3-F875-4819-9AA5-893E27E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A9F-0B55-4C81-A621-CC53FA53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E32-F5C1-4F6C-A96E-7EFAB428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DB2-BF8C-42D4-91CB-7E8FA21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12C-374D-4677-92D9-90AB056E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84F-99DB-4EB6-BDF7-6935EE71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DE8-5112-43F8-8D68-6FDA883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77E-3416-4FFA-A632-23C65EA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90E94-4B50-494A-B547-72055A780D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