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74273"/>
        <c:axId val="5209105"/>
      </c:barChart>
      <c:catAx>
        <c:axId val="14574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9105"/>
        <c:crosses val="autoZero"/>
        <c:auto val="1"/>
        <c:lblAlgn val="ctr"/>
        <c:lblOffset val="100"/>
        <c:noMultiLvlLbl val="0"/>
      </c:catAx>
      <c:valAx>
        <c:axId val="5209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74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55F-0728-4DEE-ABF4-2D3D37DB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F00-CA2B-4FB9-BE8E-332C0F53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14A-18B6-4879-B207-2539679C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9AE-A058-4B5D-9E2C-9454B906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EE6-449B-43F2-8EF3-11ED56AD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0F8-112E-4D2D-9990-AF04BB88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EFE-4091-47D6-BF49-3AB9E8BD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EEE-D552-4E60-8162-A1A2E460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161-E8B6-4CFB-AE0E-EE3BFAAB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54F-44F1-440F-8543-900AECA3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6AC-25A1-43FB-A17A-47E3303B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529-E349-4B89-A06F-951CB947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BADCB-B7C7-4FC6-8C54-220F321540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