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113280"/>
        <c:axId val="90470710"/>
      </c:barChart>
      <c:catAx>
        <c:axId val="631132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70710"/>
        <c:crosses val="autoZero"/>
        <c:auto val="1"/>
        <c:lblAlgn val="ctr"/>
        <c:lblOffset val="100"/>
        <c:noMultiLvlLbl val="0"/>
      </c:catAx>
      <c:valAx>
        <c:axId val="904707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132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D46D-7C87-4208-8C36-C2F0C13CF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69C9-707C-4D98-B477-25CF3005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9F29-27C4-4C5F-8758-5BC4540A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739E-A2EE-4F0D-9517-451A01A0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E54A-D37A-4D82-8096-9A8C1261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BB0-2062-449F-8C17-D407488B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1851-CE43-4BDD-9693-56779A13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26D3-F6FC-4964-B80B-86606431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8AE6-4042-4535-A8CF-D6595479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4E29-6920-4178-BF5B-8DAF9543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F85F-E9DD-4AB7-BDE3-320305DB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DDDA-A95F-43DB-8443-C78A10FD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0D63D-6E9A-4276-946F-B014DBC981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